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zorro-short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698-6050-4D08-A651-651938C7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635-1D53-4DB4-8C77-AB6EF7AA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25B-D800-4D16-BBD1-AA324DFF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576-FCD6-45DF-9E37-14558387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5D1-6BC1-4DD6-88C0-2B00E9DA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7B5-F428-4A18-9C71-74C7B641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7E5B-2DC1-49B0-9638-C7950116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4ACF-873F-4D6F-AD87-6F282FD1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596-70EF-45E9-879F-41E34A28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C20-6A23-4A59-AA26-E1EA350C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751-D2AB-4883-8E8E-CB81E1AC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8EC3-0066-4445-82FA-03030B36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1155-F309-40FD-8FC3-A79A94151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zorro-short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le Class Review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143000"/>
            <a:ext cx="693432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el of Fort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5905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zorro-sho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each student an index card with a number from 1-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are instructed to write a review question, math problem, or spelling word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he Spin Butt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wheel hits the number on the index card, the student chooses who will receive the question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066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4344000">
            <a:off x="5714640" y="182880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4:24:23Z</dcterms:created>
  <dc:creator>Connie Campbell</dc:creator>
  <dc:description/>
  <dc:language>en-US</dc:language>
  <cp:lastModifiedBy>Connie Campbell</cp:lastModifiedBy>
  <dcterms:modified xsi:type="dcterms:W3CDTF">2006-02-20T23:01:23Z</dcterms:modified>
  <cp:revision>6</cp:revision>
  <dc:subject/>
  <dc:title>Wheel of Fortune</dc:title>
</cp:coreProperties>
</file>